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7F6-DC4E-437F-B5B3-CC747C4C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CBF-933E-4382-ADD4-2038571C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502-F12A-4EEC-855B-FD75F77D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0B87-F0F0-4E91-AD32-CACB9B24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C66-09F6-4E1E-9184-277ABC9D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898-DE8C-4599-9647-ED763DEB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361-1776-4B3E-93A0-4AF3B105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207-EC15-446B-979A-5054046E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0F1-C80C-443B-A669-E2F236B6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C1D-EC44-4D05-9DD2-1AE6E292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F3E-9DB4-431E-9B0B-C854885D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D6C-5F4F-4AC3-A9F4-1AAC1F4A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3F24-AF02-4C46-B370-819FF9B7D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15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Hybridation soma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Définition d’un protopl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Isolement et obtention des protoplas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fusion des protoplas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Méthode chim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Méthode éléctr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onséquences de la fusion des protoplas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éthode chim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Par des substances chimiques tel que le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polyéthylène glycol(PEG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molécule hydrosolubles qui entoure la périphérie du protoplaste et masque ainsi les charges éléctriques  les protoplastes n’ont plus de difficultés à se rapprocher les uns des autres et dans les cas les plus favorables à fusio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méthode électrique quant à elle débute par l’application d’u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urant alternatif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ans le milieu de culture. Ceci va favoriser l’alignement des protoplastes en chapelet. La fusion est induite ensuite par l’application d’u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urant contin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éthode éléct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fusion entre deux protaplastes donnant des hybrides est dit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ybridation somatiqu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7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.S. CARLSON obtient le premie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bride somatiqu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spécifique pa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sion de</a:t>
            </a:r>
            <a:r>
              <a:rPr b="1" lang="ar-D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plast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e différentes espè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a pomate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1600200"/>
            <a:ext cx="8991720" cy="495288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mi les premières démonstrations de fusion entre des protoplastes différents est la </a:t>
            </a: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omat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qui constitue un hybride entre la tomate et la pomme de terre par fusion de leurs protopla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Pomat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28600" y="0"/>
            <a:ext cx="4191120" cy="655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648320" y="0"/>
            <a:ext cx="41907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1599840"/>
            <a:ext cx="861048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a fusion des protoplastes se fait au hasard,on peut donc obtenir une fusion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complète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parti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s partenaires fusionnés peuvent avoir la même origine càd même espèce on parle d’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autof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’union de protoplastes différents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est dite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 hétérofus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arfois des compétitions apparaissent et donnent pour conséquence l’élimination de certains territoires cellulaire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’un des noyau peut être éliminé et on obtient alors un </a:t>
            </a: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hybride cytoplasmique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 cybrid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 cybride ne contient que l’un des génomes plus les deux garnitures cytoplasm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La résultante de cette fusion est un spectre de structures génétiques très variables aptes à se régénérer sous forme de sujets entier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éfinition de protopl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5486400" cy="563868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protoplaste est une Cellule végétale dont la paroi pectocellulosique a été enlevée par digestion enzymatique ou autre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 protoplastes  peuvent être obtenus à partir de n'importe quel tissu végétal, mais ce sont généralement les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arenchymes des jeunes feuil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i sont utilisés pour leur prépa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3429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solement et obtention des protoplas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971800" y="6491160"/>
            <a:ext cx="3429000" cy="36828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tention de protopl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5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496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609480" y="6216120"/>
            <a:ext cx="8046000" cy="6426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'obtention de protoplast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éparer les tissus végétaux pour obtenir une suspension de protopl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echnique d’isolement des protopl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solement se fait en milieu hypertonique par rapport au milieu vacuolai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étachement de la paro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égradation de la paroi par traitement enzymat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limination des enzymes par lav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égère centrifugation ou fil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lacer dans un milieu de culture spécif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nduction des premières divisions en présence des auxines et des cytokinines de même concent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btention de 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tir de ces protoplastes, il est possible d'obtenir de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ouvelles plan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i les conditions de milieu sont favora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 paroi végétale se reconstit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L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tes cellulaires se réarrang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es cellules entrent en divi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Elles donnent ainsi naissance à des microcolonies, puis d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érés sur un milieu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</a:t>
            </a:r>
            <a:r>
              <a:rPr b="1" lang="ar-DZ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D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n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als se développent en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mbryons somatiq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 donneront des plantu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lic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6019920"/>
          </a:xfrm>
          <a:prstGeom prst="rect">
            <a:avLst/>
          </a:prstGeom>
          <a:solidFill>
            <a:srgbClr val="f4f9a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SA" sz="3200" spc="-1" strike="noStrike">
                <a:solidFill>
                  <a:srgbClr val="cc0000"/>
                </a:solidFill>
                <a:latin typeface="Arial"/>
              </a:rPr>
              <a:t>'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h</a:t>
            </a:r>
            <a:r>
              <a:rPr b="1" i="1" lang="fr-FR" sz="3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bridation</a:t>
            </a:r>
            <a:r>
              <a:rPr b="1" i="1" lang="ar-SA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somat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La propriété la plus importante d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plast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leur capacité à fusionner entre eux lorsqu'ils sont placés dans un milieu approprié. Cette technique permet de surmonter les barrières liées à la reproduction sexuée et de créer de nouvelles combinaisons ent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ya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ransformation génétiq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 fait de l'absence de l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aroi pectocellulosiq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introduction directe de 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es cellules est facilité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a fusion des protopla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culture des protoplastes est devenue surtout intéressante lorsque le progrés technique a permet leur fusion suivie de la regénération des produits de fusion ,il fallait pour cela réduire et mêm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l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n première approc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s charges éléctriqu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ésentes et qui les maintient à distance les uns des au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ux méthodes sont utilisé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nchour</cp:lastModifiedBy>
  <dcterms:modified xsi:type="dcterms:W3CDTF">2020-03-10T12:54:3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