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9B9-C44C-4876-BAB0-4F0DD8A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0DC-7C23-4F85-9AAC-27316CE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C78-0A9D-4D58-80A2-B77E2FB9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09F-808D-4DA6-A3AC-FC64A987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4D0-FF01-49E3-8CBD-260529FF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934-473B-4C02-BFB5-4DA5A23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819-6B2D-4889-B194-DB172E04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73D-E434-4945-B88D-4EB9A51F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E3-47ED-4206-B290-C926F8B1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027-BA68-4D2F-98E3-CF2FE04B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C01-B09C-45D9-8C7E-82D36EA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AE0-5B37-4D7D-A0FD-24E811F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1BB-84D0-4A31-B185-52D1DFF3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66&amp;lettre=H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25&amp;lettre=D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487&amp;lettre=S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86&amp;lettre=L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55&amp;lettre=G" TargetMode="External"/><Relationship Id="rId4" Type="http://schemas.openxmlformats.org/officeDocument/2006/relationships/hyperlink" Target="http://www.gnis-pedagogie.org/index.php?spec=lexique&amp;numpage=179&amp;numfamille=11&amp;numrub=33&amp;numcateg=&amp;numsscateg=&amp;numpara=2343&amp;lettre=F" TargetMode="External"/><Relationship Id="rId5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08&amp;lettre=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gynogénè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client\Desktop\biotech-58---obtention-dhaploides-organes-femelles-500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Gynoge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peut obtenir des haploïdes après croisements entre espèces ou entre genres. Il y a fécondation, mais l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compatibles du parent pollinisateur sont rejetés naturellement. On peut également provoquer une fécondation anormale à l'aide de pollen dén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ynogé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ur utiliser en sélection une plante régénérée par l'une de ces voies,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l faut disposer de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plantes fertiles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t donc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di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640" y="1600200"/>
            <a:ext cx="8915400" cy="3124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Haplodiploïdisation = Haploïdisation+doublement (spontanée ou indui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447560"/>
            <a:ext cx="8381880" cy="51814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état haploïde étant instable, l'individu régénéré est parfois diploïde, on parle de doublement spontané du stock chromosom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 blé, on peut compter 20 à 25 %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oublés spontané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0 à 65 % chez l'orge. Sinon, on provoque artificiellemen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un doublement des chromosom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le plus couramment par l'action d'un agent chimique,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la colchic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antes obtenues sont des diploïdes homozygotes : elles possèdent deux copies identiques de chacun de leurs chromosomes et donc portent des paires d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èn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llèl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identiques, d'où leu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rand intérê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La multiplication de ces plantes se fera pa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écond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tous les descendants seront des copies identiques de leurs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edf57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lchicin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bloque la mitos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près la duplication d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les cellules deviennent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diploïd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traitement à la colchicine peut se réaliser au stade plantule par trempage des racines ou injection dans les méristè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taux de doublement sont très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aitement à la colch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haplodipoidisation est une méthode utilisée pour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fixer plus rapidement le matériel génétiqu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cours de sélection. Elle repo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 l'obtention de plant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n) à partir des organes mâles ou femelles puis sur le doublement du stock chromosomique. Ains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va disposer de plant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ploides (2 n) homozygot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ù l'ensemble d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éno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fix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'est donc une technique rapide de production de lignées pures en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une seul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étape au lieu de 7 à 8 générat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solidFill>
            <a:srgbClr val="e9ef9b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processus d'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plodiploïdis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comprend l'obtention de plantes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ploïdes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à partir des organes porteurs des cellules reproductrices, appelés gamétophyte mâle ou femelle, et le retour vers la phase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ploïde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plus, cette méthode permet d'observer l'expression aussi bien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énes récessif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ènes dominant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ci est particulièrement intéressant en sél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u c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mitose, en présence de colchicine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u fuseau chromatique le long duquel migrent les chromosomes des deux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s est inhibée. Une seule cellule réuni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 les produits de la mitose est formée, 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ède donc le double de chromosomes. 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x séries n + n sont identiques, la p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ploïde doublée (HD) est donc homozyg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nsu stri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on obtient ainsi une lignée fix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ne seule génération de reproduction sex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ès généralement, l'individu haploïde présente les mêmes caractéristiques morpholog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 l'individu diploïde. Toutefois, la réduction de la moitié de son génome se traduit par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u volume cellulaire et une diminution de la taille dela plante (Magoon et Khanna 1963). Cette miniaturisation relative ne suffit cependant pas à repérer de façon suffisamment fiable les plantules présum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ploïdes. C'est la raison pour laquelle desmarqueurs génétiques, visibles précocement et d'observation facile sont recherch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839440" cy="5486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électionneu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effectue un croisement entre deux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gné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les présentant des caractéristiques intéressantes et complémentaires. Ce croisement produira la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énéra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Ce sont les plantes mères pour l'obtention de la phas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aploïd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A ce stade, toutes les plantes sont iden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447920"/>
            <a:ext cx="84582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lon les lois de Mendel et les recombinaisons entre 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mosom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ux. Les individus F2 seront alors tous différents les uns des autres. Pour faciliter le travail de sélection, l'haplodiploïdisation va permettre d'obtenir des plantes homozyg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lient\Desktop\biotech-56---principe-haplodiploidis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52640" y="1182240"/>
            <a:ext cx="9296280" cy="5675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lante haploïde est un individu possédant un nombre gamétique de chromos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'agit de récupérer les cellules ayant subi la méiose  avant la fécondation. C'est là que commence le travail de laborat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'il s'agit de gamètes mâles, on parle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ndr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S'il s'agit de gamètes femelles, c'est la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yn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Mis en culture sur des milieux particuliers, l'embryon haploïde va se développer, les tissus vont se différencier pour donner des plantes ha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lient\Desktop\biotech-57---obtention-dhaploides-organes-males.jpg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