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0ADC-73B2-49CA-8E9C-1FA21A5B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02C-11CA-4767-92D2-A76332F0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3D6-3EFB-47B8-9262-4CC79F0B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7DE-E9F2-4975-8809-DA2633EA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DB9-3556-4345-A836-FF024F48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B492-B2D7-4A31-A7B7-F959B4F1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9D4-1D19-4AE9-A305-00B77B93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66A-F5E2-4E26-9DA0-4F8C5E8F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96E-092F-42C0-BC05-6F517482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8E2C-581E-4F03-ABFE-0036F0C4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1EF7-FF55-4034-B9A8-4B517041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5B5-9DA3-4233-AA84-48DB3D4E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F69F-3F06-4084-8118-1E5E0920D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400" spc="-1" strike="noStrike">
                <a:solidFill>
                  <a:srgbClr val="cc0000"/>
                </a:solidFill>
                <a:latin typeface="Arial"/>
              </a:rPr>
              <a:t>La culture des méristème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- Définition d’un méristè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2- Principe de la culture des méristè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3- Technique de la culture des méristè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4-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5- Avantages et limi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609588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in, il faudra une étape complémentaire pour enraciner les futures plantes avant qu'elles soient acclimatées en serre pour finalem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rvir de pied mère pour le prélèvement de boutures sain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s préalablement il faudra vérifier que les plantes obtenues sont bien indemnes de virus, en leur faisant subir un test immunologiqu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ar-DZ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 immunosorbent assay</a:t>
            </a:r>
            <a:r>
              <a:rPr b="0" lang="ar-DZ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uvant l'absence totale de particules viral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- Appli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 multipliant le méristème prélevé au sommet d'une plante ou dans le bourgeon axillaire, le plus souvent indemne de maladies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pourra très rapidement obtenir de nombreuses plantes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toutes semblabl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u point de vue génétique et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ébarrassées de malad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ont elles étaient affectées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68580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 donc possible de  reconstituer des clones  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indemnes de maladies à partir de pieds </a:t>
            </a: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ères malades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l existe plus de 50 espèces végétales qui ont été ainsi assainies c'est le cas de la pomme de terre , la canne à sucre , de dahlia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514600"/>
            <a:ext cx="8686800" cy="129528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antages  et limi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anta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ulture de méristèmes permet le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auvetage des variétés</a:t>
            </a:r>
            <a:r>
              <a:rPr b="1" lang="ar-SA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enacées d</a:t>
            </a:r>
            <a:r>
              <a:rPr b="1" lang="fr-FR" sz="4000" spc="-1" strike="noStrike">
                <a:solidFill>
                  <a:srgbClr val="cc0000"/>
                </a:solidFill>
                <a:latin typeface="Arial"/>
              </a:rPr>
              <a:t>e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disparition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 très virosé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le concerne essentiellement l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lantes à reproduction par voie végétativ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uturage, marcottage, etc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ette voie favorise la</a:t>
            </a:r>
            <a:r>
              <a:rPr b="1" lang="ar-SA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ransmission des virus</a:t>
            </a:r>
            <a:r>
              <a:rPr b="1" lang="ar-SA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à la descendance</a:t>
            </a:r>
            <a:r>
              <a:rPr b="1" lang="ar-SA" sz="4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s l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largonium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dahlia, le chrysanthème, la pomme de terre, l'artichaut, le fraisier, framboisier, etc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2971800" cy="243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943600" y="4038480"/>
            <a:ext cx="3200400" cy="2295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943600" y="16002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048120" y="1600200"/>
            <a:ext cx="2819160" cy="2457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3048120" y="4191120"/>
            <a:ext cx="2819160" cy="214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0" y="4191120"/>
            <a:ext cx="3038400" cy="2133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63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larg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63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r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63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rysanthè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248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2895480" cy="2666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00400" y="66294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rysantemum macrucap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960" y="1143000"/>
            <a:ext cx="8915400" cy="4983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lantes produites sont saines</a:t>
            </a:r>
            <a:r>
              <a:rPr b="0" lang="ar-SA" sz="4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s virus, champignons et bactéries et répondent aux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es phytosanitaire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'échanges internationaux de plus en plus draconienne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anta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5181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plantes assainies ont un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gueur accru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 des qualités de floraison et de fructification restauré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obtient d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riétés conform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à la variété d'origin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 que l'on peut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ier en grande quantit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production est homogèn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anta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066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éfinition d’un méristème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méristèmes sont des tissus en expansion continue conférant à la plante une organogenèse permanente chez les végétaux ligneux 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s représentent de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etits massifs de cellules indifférencié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mm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 conservent la capacité de se diviser activemen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 zones méristèmatiques gardent jusqu'à leur mort le caractère juvénil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es jouent un rôle capital dans le développement végétal puisqu'elle édifient tous les orga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imi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eaea68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lantes obtenues sont indemnes de virus mai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 sont pas devenues résistantes aux viru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es peuvent être recontaminées via des insectes si des mesures de pro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axie ne sont pas prise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rincipe de la culture des méristè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194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LIMASSE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CORNUET notent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'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bsence de virus dans les méristè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tabacs viros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2266920" cy="3352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72200" y="3276720"/>
            <a:ext cx="2438280" cy="32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124080" y="3276720"/>
            <a:ext cx="2724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763120" cy="6553080"/>
          </a:xfrm>
          <a:prstGeom prst="rect">
            <a:avLst/>
          </a:prstGeom>
          <a:solidFill>
            <a:srgbClr val="eaea68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5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tant à profit ces travaux, G. MOREL et C. MARTIN à l'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.N.R.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Versailles,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égénèrent des plantes entières sain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dahlia, variété "le Rêve" indemnes de virus à partir de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ulture de méristè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plants infectés par trois virus différ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3352680" cy="3505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733920" y="3352680"/>
            <a:ext cx="5105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a même manière ils sauveront la variété de pomme de terre "la Belle de Fontenay" en 195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Technique de la culture des méristè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95288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ulture de méristèmes se déroul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énéralemen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a manière suivant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 boutures contenant un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ourgeon végétat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nt prélevées sur les variétés à assain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 explants so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érilisé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i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isséqué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érilement,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s hotte à flux laminair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ous une loupe binoculaire, afin d'extraire le méristème de l'apex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ôme apical sans feuill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qui mesure moins de 0,4 mm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 Ce méristème est rapidement déposé dans un tube de culture contenant un gel nutritif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 Progressivement, les cellules vont se diviser, des feuilles vont se former, au bout d'un mois cette pousse devra être repiquée sur un nouveau milieu pour parfaire sa croissan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.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is un mois plus tard il faudra multiplier ou cloner les pousses afin d'obtenir le nombre voulu de plantes sain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ALA COMPUTERS</cp:lastModifiedBy>
  <dcterms:modified xsi:type="dcterms:W3CDTF">2001-12-31T23:15:3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