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836-1483-48F1-9CE6-9EA0F0C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E03-746B-4240-936E-AFF5E7D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DC9-1B3C-4AB6-BDE0-5AD056F5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3B3-A576-4250-BA0D-1B4D547E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222-7858-4AD5-9106-09E958E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61B-983C-4D11-B683-B55E6BD6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52D-10FB-439C-9848-D2B00EC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9A7-D9E3-40E4-8D0E-8937D2B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69A-729C-43AA-88C6-0298603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7A9-5CE8-4D2B-961E-0404153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D27-62BE-4AEC-9193-41E1211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22E-A2EF-491B-B77F-8565A61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E745-1B32-4E0F-B8D2-199E9918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ybridation s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 d’un protopl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chi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éléct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séquences de la 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chi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ar des substances chimiques tel que l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olyéthylène glycol(PE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olécule hydrosolubles qui entoure la périphérie du protoplaste et masque ainsi les charges éléctriques  les protoplastes n’ont plus de difficultés à se rapprocher les uns des autres et dans les cas les plus favorables à fusio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éthode électrique quant à elle débu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alternat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ns le milieu de culture. Ceci va favoriser l’alignement des protoplastes en chapelet. La fusion est induite ensui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contin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éléct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usion entre deux protaplastes donnant des hybrides est di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bridation somatiqu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S. CARLSON obtient le premi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bride somatiqu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spécifiqu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sion de</a:t>
            </a:r>
            <a:r>
              <a:rPr b="1" lang="ar-D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plast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différentes espè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600200"/>
            <a:ext cx="8991720" cy="495288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mi les premières démonstrations de fusion entre des protoplastes différents est la 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qui constitue un hybride entre la tomate et la pomme de terre par fusion de leur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4191120" cy="65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fusion des protoplastes se fait au hasard,on peut donc obtenir une fusion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lèt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arti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partenaires fusionnés peuvent avoir la même origine càd même espèce on parle d’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union de protoplastes différents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st dite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hétérofu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fois des compétitions apparaissent et donnent pour conséquence l’élimination de certains territoires cellulair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un des noyau peut être éliminé et on obtient alors un 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hybride cytoplasmiqu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 cybri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cybride ne contient que l’un des génomes plus les deux garnitures cytoplasm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La résultante de cette fusion est un spectre de structures génétiques très variables aptes à se régénérer sous forme de sujets entie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protopl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86400" cy="563868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toplaste est une Cellule végétale dont la paroi pectocellulosique a été enlevée par digestion enzymatique ou autre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rotoplastes  peuvent être obtenus à partir de n'importe quel tissu végétal, mais ce sont généralement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chymes des jeunes feuil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i sont utilisés pour leur prépa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3429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71800" y="6491160"/>
            <a:ext cx="3429000" cy="36828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tent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49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6216120"/>
            <a:ext cx="8046000" cy="6426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btention de protoplast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parer les tissus végétaux pour obtenir une suspens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chnique d’isolement des protopl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solement se fait en milieu hypertonique par rapport au milieu vacuol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tachement de la paro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gradation de la paroi par traitement enzy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limination des enzymes par lav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égère centrifugation ou fil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lacer dans un milieu de culture spécif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uction des premières divisions en présence des auxines et des cytokinines de même concen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tention de 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e ces protoplastes, il est possible d'obten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uvelles pl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i les conditions de milieu sont favora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 paroi végétale se reconsti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tes cellulaires se réarran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s cellules entrent en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donnent ainsi naissance à des microcolonies, puis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érés sur un milieu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als se développent e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mbryons somat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donneront des plantu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6019920"/>
          </a:xfrm>
          <a:prstGeom prst="rect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i="1" lang="fr-FR" sz="3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bridation</a:t>
            </a:r>
            <a:r>
              <a:rPr b="1" i="1" lang="ar-SA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s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a propriété la plus importante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las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leur capacité à fusionner entre eux lorsqu'ils sont placés dans un milieu approprié. Cette technique permet de surmonter les barrières liées à la reproduction sexuée et de créer de nouvelles combinaisons ent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y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formation génét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fait de l'absence de 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oi pectocellulos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ntroduction directe de 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cellules est facilité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fusion de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ulture des protoplastes est devenue surtout intéressante lorsque le progrés technique a permet leur fusion suivie de la regénération des produits de fusion ,il fallait pour cela réduire et mêm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 première approc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 charges éléctriqu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ésentes et qui les maintient à distance les uns d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x méthodes sont utili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4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