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758B-D0AB-4F1B-AF63-2B548646B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B025-1B4E-491B-BF1A-31609A1ED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6539-965E-4916-99DC-B702FE2B1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71A0-27AA-48A6-9E9F-AF4AB9C28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4BFC-4C04-4F0E-BB5F-4022A2D34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B6E7-76EE-47B0-8221-76A7D80A1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9999-E817-4AEE-A208-3249D03F7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A9E6-F211-41D5-B87E-2812EE8BA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01BE-2B5D-4D06-A49F-CDE68C020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663F-E16D-4FBA-8E24-919FDF9EB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B5B1-DFDF-4D44-9C67-4FB9E1A45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F393-D5D3-4A42-8748-6FE2C2B5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BB479-54B4-47F8-AFE6-6873559B26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fr-FR" sz="4400" spc="-1" strike="noStrike">
                <a:solidFill>
                  <a:srgbClr val="cc0000"/>
                </a:solidFill>
                <a:latin typeface="Arial"/>
              </a:rPr>
              <a:t>La culture des méristèmes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1- Définition d’un méristè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2- Principe de la culture des méristèm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3- Technique de la culture des méristè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4- Appli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5- Avantages et limit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610480" cy="6248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80880" y="533160"/>
            <a:ext cx="8229600" cy="6095880"/>
          </a:xfrm>
          <a:prstGeom prst="rect">
            <a:avLst/>
          </a:prstGeom>
          <a:solidFill>
            <a:srgbClr val="eaea68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in, il faudra une étape complémentaire pour enraciner les futures plantes avant qu'elles soient acclimatées en serre pour finalement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ervir de pied mère pour le prélèvement de boutures saines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s préalablement il faudra vérifier que les plantes obtenues sont bien indemnes de virus, en leur faisant subir un test immunologique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E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ar-DZ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zyme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ed immunosorbent assay</a:t>
            </a:r>
            <a:r>
              <a:rPr b="0" lang="ar-DZ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uvant l'absence totale de particules virales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99172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4- Applic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029200"/>
          </a:xfrm>
          <a:prstGeom prst="rect">
            <a:avLst/>
          </a:prstGeom>
          <a:solidFill>
            <a:srgbClr val="eaea68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 multipliant le méristème prélevé au sommet d'une plante ou dans le bourgeon axillaire, le plus souvent indemne de maladies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n pourra très rapidement obtenir de nombreuses plantes,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toutes semblabl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du point de vue génétique et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débarrassées de malad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dont elles étaient affectées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915400" cy="6858000"/>
          </a:xfrm>
          <a:prstGeom prst="rect">
            <a:avLst/>
          </a:prstGeom>
          <a:solidFill>
            <a:srgbClr val="eaea68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st donc possible de  reconstituer des clones   </a:t>
            </a: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indemnes de maladies à partir de pieds </a:t>
            </a:r>
            <a:r>
              <a:rPr b="1" lang="ar-SA" sz="4400" spc="-1" strike="noStrike">
                <a:solidFill>
                  <a:srgbClr val="cc0000"/>
                </a:solidFill>
                <a:latin typeface="Arial"/>
              </a:rPr>
              <a:t>-</a:t>
            </a: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mères malades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l existe plus de 50 espèces végétales qui ont été ainsi assainies c'est le cas de la pomme de terre , la canne à sucre , de dahlia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..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tc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514600"/>
            <a:ext cx="8686800" cy="1295280"/>
          </a:xfrm>
          <a:prstGeom prst="rect">
            <a:avLst/>
          </a:prstGeom>
          <a:solidFill>
            <a:srgbClr val="eaea68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vantages  et limit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solidFill>
            <a:srgbClr val="eaea6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vantag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culture de méristèmes permet le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sauvetage des variétés</a:t>
            </a:r>
            <a:r>
              <a:rPr b="1" lang="ar-SA" sz="4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menacées d</a:t>
            </a:r>
            <a:r>
              <a:rPr b="1" lang="fr-FR" sz="4000" spc="-1" strike="noStrike">
                <a:solidFill>
                  <a:srgbClr val="cc0000"/>
                </a:solidFill>
                <a:latin typeface="Arial"/>
              </a:rPr>
              <a:t>e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 disparition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 très virosées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le concerne essentiellement les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plantes à reproduction par voie végétative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uturage, marcottage, etc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cette voie favorise la</a:t>
            </a:r>
            <a:r>
              <a:rPr b="1" lang="ar-SA" sz="4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transmission des virus</a:t>
            </a:r>
            <a:r>
              <a:rPr b="1" lang="ar-SA" sz="4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à la descendance</a:t>
            </a:r>
            <a:r>
              <a:rPr b="1" lang="ar-SA" sz="4000" spc="-1" strike="noStrike">
                <a:solidFill>
                  <a:srgbClr val="cc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705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s le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elargonium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dahlia, le chrysanthème, la pomme de terre, l'artichaut, le fraisier, framboisier, etc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2971800" cy="2438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943600" y="4038480"/>
            <a:ext cx="3200400" cy="22957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5943600" y="1600200"/>
            <a:ext cx="3200400" cy="23623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3048120" y="1600200"/>
            <a:ext cx="2819160" cy="24573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3048120" y="4191120"/>
            <a:ext cx="2819160" cy="21430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0" y="4191120"/>
            <a:ext cx="3038400" cy="21333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85800" y="63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elargo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29000" y="63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Geran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629400" y="63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hrysanthè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229600" cy="62485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57200" y="228600"/>
            <a:ext cx="2895480" cy="26668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200400" y="6629400"/>
            <a:ext cx="228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60958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Crysantemum macrucap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75960" y="1143000"/>
            <a:ext cx="8915400" cy="4983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plantes produites sont saines</a:t>
            </a:r>
            <a:r>
              <a:rPr b="0" lang="ar-SA" sz="4400" spc="-1" strike="noStrike">
                <a:solidFill>
                  <a:srgbClr val="cc0000"/>
                </a:solidFill>
                <a:latin typeface="Arial"/>
              </a:rPr>
              <a:t>: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ns virus, champignons et bactéries et répondent aux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es phytosanitaires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'échanges internationaux de plus en plus draconiennes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solidFill>
            <a:srgbClr val="eaea6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vantag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228600" y="1295280"/>
            <a:ext cx="8763120" cy="5181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 plantes assainies ont une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igueur accrue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t des qualités de floraison et de fructification restaurées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 obtient des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ariétés conformes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à la variété d'origine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t que l'on peut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tiplier en grande quantité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production est homogène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solidFill>
            <a:srgbClr val="eaea6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vantag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10666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Définition d’un méristème</a:t>
            </a:r>
            <a:br>
              <a:rPr sz="48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029200"/>
          </a:xfrm>
          <a:prstGeom prst="rect">
            <a:avLst/>
          </a:prstGeom>
          <a:solidFill>
            <a:srgbClr val="eaea68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s méristèmes sont des tissus en expansion continue conférant à la plante une organogenèse permanente chez les végétaux ligneux 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s représentent des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petits massifs de cellules indifférencié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1mm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 conservent la capacité de se diviser activement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s zones méristèmatiques gardent jusqu'à leur mort le caractère juvénile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les jouent un rôle capital dans le développement végétal puisqu'elle édifient tous les orga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imit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solidFill>
            <a:srgbClr val="eaea68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plantes obtenues sont indemnes de virus mais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e sont pas devenues résistantes aux virus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les peuvent être recontaminées via des insectes si des mesures de pro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laxie ne sont pas prises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89154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aea6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Principe de la culture des méristè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915400" cy="5257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 1949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 LIMASSE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 CORNUET notent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l'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absence de virus dans les méristèm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tabacs virosé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09480" y="3276720"/>
            <a:ext cx="2266920" cy="3352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172200" y="3276720"/>
            <a:ext cx="2438280" cy="3276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3124080" y="3276720"/>
            <a:ext cx="272412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52280" y="304560"/>
            <a:ext cx="8763120" cy="6553080"/>
          </a:xfrm>
          <a:prstGeom prst="rect">
            <a:avLst/>
          </a:prstGeom>
          <a:solidFill>
            <a:srgbClr val="eaea68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5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tant à profit ces travaux, G. MOREL et C. MARTIN à l'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.N.R.A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Versailles,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régénèrent des plantes entières sain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dahlia, variété "le Rêve" indemnes de virus à partir de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ulture de méristèm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plants infectés par trois virus différ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8600" y="3352680"/>
            <a:ext cx="3352680" cy="3505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733920" y="3352680"/>
            <a:ext cx="51051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534160" cy="6400800"/>
          </a:xfrm>
          <a:prstGeom prst="rect">
            <a:avLst/>
          </a:prstGeom>
          <a:solidFill>
            <a:srgbClr val="eaea68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la même manière ils sauveront la variété de pomme de terre "la Belle de Fontenay" en 195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853416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fr-FR" sz="4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Technique de la culture des méristè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952880"/>
          </a:xfrm>
          <a:prstGeom prst="rect">
            <a:avLst/>
          </a:prstGeom>
          <a:solidFill>
            <a:srgbClr val="eaea68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culture de méristèmes se déroule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énéralement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la manière suivante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 boutures contenant un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bourgeon végétati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ont prélevées sur les variétés à assaini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s explants sont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térilisé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is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disséqué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érilement,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s hotte à flux laminaire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sous une loupe binoculaire, afin d'extraire le méristème de l'apex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dôme apical sans feuilles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qui mesure moins de 0,4 mm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82296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eaea68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 Ce méristème est rapidement déposé dans un tube de culture contenant un gel nutritif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  Progressivement, les cellules vont se diviser, des feuilles vont se former, au bout d'un mois cette pousse devra être repiquée sur un nouveau milieu pour parfaire sa croissanc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5.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is un mois plus tard il faudra multiplier ou cloner les pousses afin d'obtenir le nombre voulu de plantes saines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ALA COMPUTERS</cp:lastModifiedBy>
  <dcterms:modified xsi:type="dcterms:W3CDTF">2001-12-31T23:15:34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