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0AA-C18C-4828-A4CC-FEC508BB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3460-3925-4C2F-902C-41C28A9C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3C9-C130-4DF0-B4BA-76DBE504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EAE-4FF4-4660-A2ED-38D9F325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57D-D9EF-4145-8619-142423BE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C82-54D8-4426-B1BF-114F1432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18F7-1006-456D-9F68-F795BBC0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30C3-42CA-4C30-8A49-62C85890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D38A-125B-408B-AC8B-6686C325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7C6C-8614-48C3-9098-107AB423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E90-EDCB-4E3A-9CE4-D3F4B372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86CF-C844-4E7F-A41B-547E1CB5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1F0D-9E39-413E-89E4-42DCA428B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15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Hybridation soma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Définition d’un protopla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Isolement et obtention des protoplas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fusion des protoplas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- Méthode chim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- Méthode éléctr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Conséquences de la fusion des protoplas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éthode chim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9436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Par des substances chimiques tel que le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polyéthylène glycol(PEG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molécule hydrosolubles qui entoure la périphérie du protoplaste et masque ainsi les charges éléctriques  les protoplastes n’ont plus de difficultés à se rapprocher les uns des autres et dans les cas les plus favorables à fusio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méthode électrique quant à elle débute par l’application d’u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urant alternatif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ans le milieu de culture. Ceci va favoriser l’alignement des protoplastes en chapelet. La fusion est induite ensuite par l’application d’u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urant contin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éthode éléct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fusion entre deux protaplastes donnant des hybrides est dit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ybridation somatiqu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7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.S. CARLSON obtient le premie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bride somatiqu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spécifique pa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sion de</a:t>
            </a:r>
            <a:r>
              <a:rPr b="1" lang="ar-D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plaste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e différentes espè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séquences de la f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a pomate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1600200"/>
            <a:ext cx="8991720" cy="495288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mi les premières démonstrations de fusion entre des protoplastes différents est la </a:t>
            </a: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pomat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qui constitue un hybride entre la tomate et la pomme de terre par fusion de leurs protoplas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Pomat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28600" y="0"/>
            <a:ext cx="4191120" cy="655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648320" y="0"/>
            <a:ext cx="41907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équences de la 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920" y="1599840"/>
            <a:ext cx="861048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a fusion des protoplastes se fait au hasard,on peut donc obtenir une fusion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complète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parti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es partenaires fusionnés peuvent avoir la même origine càd même espèce on parle d’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autofu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’union de protoplastes différents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est dite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 hétérofus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équences de la 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arfois des compétitions apparaissent et donnent pour conséquence l’élimination de certains territoires cellulaires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’un des noyau peut être éliminé et on obtient alors un </a:t>
            </a:r>
            <a:r>
              <a:rPr b="1" lang="fr-FR" sz="3600" spc="-1" strike="noStrike">
                <a:solidFill>
                  <a:srgbClr val="cc0000"/>
                </a:solidFill>
                <a:latin typeface="Arial"/>
              </a:rPr>
              <a:t>hybride cytoplasmique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fr-FR" sz="3600" spc="-1" strike="noStrike">
                <a:solidFill>
                  <a:srgbClr val="cc0000"/>
                </a:solidFill>
                <a:latin typeface="Arial"/>
              </a:rPr>
              <a:t> cybrid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e cybride ne contient que l’un des génomes plus les deux garnitures cytoplasm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équences de la 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La résultante de cette fusion est un spectre de structures génétiques très variables aptes à se régénérer sous forme de sujets entier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éfinition de protopl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5486400" cy="563868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 protoplaste est une Cellule végétale dont la paroi pectocellulosique a été enlevée par digestion enzymatique ou autre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 protoplastes  peuvent être obtenus à partir de n'importe quel tissu végétal, mais ce sont généralement les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arenchymes des jeunes feuil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i sont utilisés pour leur prépa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3429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solement et obtention des protoplas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971800" y="6491160"/>
            <a:ext cx="3429000" cy="36828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tention de protopl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5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496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609480" y="6216120"/>
            <a:ext cx="8046000" cy="64260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'obtention de protoplaste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éparer les tissus végétaux pour obtenir une suspension de protopl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echnique d’isolement des protopl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solement se fait en milieu hypertonique par rapport au milieu vacuolai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étachement de la paro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égradation de la paroi par traitement enzymat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limination des enzymes par lav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égère centrifugation ou filt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lacer dans un milieu de culture spécif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Induction des premières divisions en présence des auxines et des cytokinines de même concentr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Obtention de 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rtir de ces protoplastes, il est possible d'obtenir de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ouvelles plan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i les conditions de milieu sont favorab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a paroi végétale se reconstit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L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tes cellulaires se réarrang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es cellules entrent en divi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Elles donnent ainsi naissance à des microcolonies, puis d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ar-D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érés sur un milieu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</a:t>
            </a:r>
            <a:r>
              <a:rPr b="1" lang="ar-DZ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D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ion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als se développent en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mbryons somatiq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i donneront des plantul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lica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6019920"/>
          </a:xfrm>
          <a:prstGeom prst="rect">
            <a:avLst/>
          </a:prstGeom>
          <a:solidFill>
            <a:srgbClr val="f4f9a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SA" sz="3200" spc="-1" strike="noStrike">
                <a:solidFill>
                  <a:srgbClr val="cc0000"/>
                </a:solidFill>
                <a:latin typeface="Arial"/>
              </a:rPr>
              <a:t>'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h</a:t>
            </a:r>
            <a:r>
              <a:rPr b="1" i="1" lang="fr-FR" sz="32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bridation</a:t>
            </a:r>
            <a:r>
              <a:rPr b="1" i="1" lang="ar-SA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somatiq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La propriété la plus importante d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plast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leur capacité à fusionner entre eux lorsqu'ils sont placés dans un milieu approprié. Cette technique permet de surmonter les barrières liées à la reproduction sexuée et de créer de nouvelles combinaisons ent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ya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ransformation génétiqu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 fait de l'absence de l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aroi pectocellulosiqu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introduction directe de l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les cellules est facilité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a fusion des protoplas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culture des protoplastes est devenue surtout intéressante lorsque le progrés technique a permet leur fusion suivie de la regénération des produits de fusion ,il fallait pour cela réduire et mêm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l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n première approc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s charges éléctriqu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ésentes et qui les maintient à distance les uns des au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ux méthodes sont utilisé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anchour</cp:lastModifiedBy>
  <dcterms:modified xsi:type="dcterms:W3CDTF">2020-03-10T12:54:3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