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ABC-A52E-4209-B454-CADE1C04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E9A-7935-4701-8D1D-A9AEDB46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7DD-3DC9-468F-84E8-A7A86042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D72-AFCB-4D14-8874-B363ABB9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ABB-AAC4-4AE1-B930-ED28CD0B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A27-B6B5-4BFF-8298-00F61ABA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AAC-C8BD-4B49-8539-31F056A8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538-6278-46C4-B67D-70F30CFD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CE4-21C2-436C-B11A-4277A5BD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BFC-89B8-4F30-8F27-65A7BC0D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F07-894C-4F80-A43C-28183DA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2CE-5DB6-43E5-8061-D1378D6A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812E-C972-47E8-80E2-BEFFD8702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400" spc="-1" strike="noStrike">
                <a:solidFill>
                  <a:srgbClr val="cc0000"/>
                </a:solidFill>
                <a:latin typeface="Arial"/>
              </a:rPr>
              <a:t>La culture des méristèm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- Définition d’un méristè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- Principe de la culture des méristè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3- Technique de la culture des méri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4-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5- Avantages et limi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60958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in, il faudra une étape complémentaire pour enraciner les futures plantes avant qu'elles soient acclimatées en serre pour finalem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rvir de pied mère pour le prélèvement de boutures sa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préalablement il faudra vérifier que les plantes obtenues sont bien indemnes de virus, en leur faisant subir un test immunolog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immunosorbent assay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uvant l'absence totale de particules vira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- Appl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multipliant le méristème prélevé au sommet d'une plante ou dans le bourgeon axillaire, le plus souvent indemne de maladies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pourra très rapidement obtenir de nombreuses plantes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outes semblab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u point de vue génétique e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ébarrassées de malad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ont elles étaient affectées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 donc possible de  reconstituer des clones 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ndemnes de maladies à partir de pieds 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ères malades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l existe plus de 50 espèces végétales qui ont été ainsi assainies c'est le cas de la pomme de terre , la canne à sucre , de dahlia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686800" cy="12952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  et lim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ulture de méristèmes permet le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auvetage des variétés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enacées d</a:t>
            </a:r>
            <a:r>
              <a:rPr b="1" lang="fr-FR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disparitio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 très virosé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e concerne essentiellement l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lantes à reproduction par voie végétativ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turage, marcottage, etc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ette voie favorise la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ransmission des virus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à la descendance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s 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largoniu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dahlia, le chrysanthème, la pomme de terre, l'artichaut, le fraisier, framboisier, etc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43600" y="4038480"/>
            <a:ext cx="3200400" cy="2295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48120" y="1600200"/>
            <a:ext cx="2819160" cy="2457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281916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0" y="4191120"/>
            <a:ext cx="3038400" cy="2133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lar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rysanth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24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895480" cy="266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0400" y="66294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rysantemum macrucap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960" y="1143000"/>
            <a:ext cx="8915400" cy="4983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lantes produites sont saines</a:t>
            </a: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s virus, champignons et bactéries et répondent aux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es phytosanitair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'échanges internationaux de plus en plus draconienn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18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plantes assainies ont u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gueur accru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des qualités de floraison et de fructification restauré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obtient d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iétés conform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à la variété d'origi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que l'on peu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ier en grande quantit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production est homogè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’un méristème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méristèmes sont des tissus en expansion continue conférant à la plante une organogenèse permanente chez les végétaux ligneux 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représentent d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etits massifs de cellules indifférenci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conservent la capacité de se diviser activemen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 zones méristèmatiques gardent jusqu'à leur mort le caractère juvéni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s jouent un rôle capital dans le développement végétal puisqu'elle édifient tous les orga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imi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aea6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lantes obtenues sont indemnes de virus mai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 sont pas devenues résistantes aux viru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s peuvent être recontaminées via des insectes si des mesures de pro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axie ne sont pas pris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a culture des méri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194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LIMASSE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CORNUET notent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'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bsence de virus dans les méristè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tabacs viros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2266920" cy="33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72200" y="32767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124080" y="3276720"/>
            <a:ext cx="2724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763120" cy="6553080"/>
          </a:xfrm>
          <a:prstGeom prst="rect">
            <a:avLst/>
          </a:prstGeom>
          <a:solidFill>
            <a:srgbClr val="eaea6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tant à profit ces travaux, G. MOREL et C. MARTIN à l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N.R.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Versailles,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égénèrent des plantes entières sai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dahlia, variété "le Rêve" indemnes de virus à partir de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ulture de méristè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plants infectés par trois virus diffé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5105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même manière ils sauveront la variété de pomme de terre "la Belle de Fontenay" en 19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echnique de la culture des méristè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ulture de méristèmes se dérou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emen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manière suivant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boutures contenant u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ourgeon végétat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nt prélevées sur les variétés à assain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 explants so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érilis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sséqu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érilement,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 hotte à flux lamin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us une loupe binoculaire, afin d'extraire le méristème de l'apex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ôme apical sans feuil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qui mesure moins de 0,4 m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Ce méristème est rapidement déposé dans un tube de culture contenant un gel nutritif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Progressivement, les cellules vont se diviser, des feuilles vont se former, au bout d'un mois cette pousse devra être repiquée sur un nouveau milieu pour parfaire sa croissan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 un mois plus tard il faudra multiplier ou cloner les pousses afin d'obtenir le nombre voulu de plantes sa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LA COMPUTERS</cp:lastModifiedBy>
  <dcterms:modified xsi:type="dcterms:W3CDTF">2001-12-31T23:15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