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C6D-2879-4D2B-89C7-FA267B88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A90-BA7B-4505-B715-F58B8B2D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0ED-51FC-4F2B-B989-DB7B8BCC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F86-4FCB-4BD3-B00C-60EC3426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0DE-2940-4535-AC1C-1D31BBB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078-A411-44ED-ABAA-11B75685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3F9-CC03-48FD-853F-18F8A32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7BC-9F15-436C-A502-5F42A94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886-3E19-4B91-A1C0-44D884CA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797-61C7-485B-AF7F-D32C36A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CAB-A5DD-4E13-AEC0-B129F88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FF9-3549-4C4F-A332-DCA112A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CC7-9D17-4FC5-837B-B34793418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42&amp;lettre=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Explant utilis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Principales ét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Voies de l’embryogénèse som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 Avantages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0" y="3048120"/>
            <a:ext cx="3733920" cy="36601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oies de l’embryogénèse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client\Desktop\sans-titre-7.png"/>
          <p:cNvPicPr/>
          <p:nvPr/>
        </p:nvPicPr>
        <p:blipFill>
          <a:blip r:embed="rId1"/>
          <a:stretch/>
        </p:blipFill>
        <p:spPr>
          <a:xfrm>
            <a:off x="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Voie indirecte ou passage par un 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04560"/>
            <a:ext cx="9144000" cy="69246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ses divisions cellulaires sont rapidement provoquées à partir des tissus cultivés grâce à l'apport d'une forte dose d'auxine.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alors obtenu, c'est à dire un amas de cellules indifférenciées, rejuvénilisées et qui pourront donner naissance à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embryons bipolair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avec un méristème de racines et un méristème de tiges)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vont se comporter comme des embryons zygotiques, (issus de la fécondation entre une cellule sexuelle femelle et une cellule sexuelle mâ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mbryon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client\Desktop\cafe.jpg"/>
          <p:cNvPicPr/>
          <p:nvPr/>
        </p:nvPicPr>
        <p:blipFill>
          <a:blip r:embed="rId1"/>
          <a:stretch/>
        </p:blipFill>
        <p:spPr>
          <a:xfrm>
            <a:off x="2819520" y="144792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client\Desktop\stdprod_088912.jpg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ce réservé du contenu 3" descr="img-1.jpg"/>
          <p:cNvPicPr/>
          <p:nvPr/>
        </p:nvPicPr>
        <p:blipFill>
          <a:blip r:embed="rId1"/>
          <a:stretch/>
        </p:blipFill>
        <p:spPr>
          <a:xfrm>
            <a:off x="2286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143000"/>
            <a:ext cx="8381880" cy="54864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mbryogenèse somatique est une technique qui s'adapte bien à la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duction industriel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. Les embryons somatiques peuvent être initiés dans d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réacte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afin soit de produire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semences artifici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les encapsulant dans un gel nutritif, ou encore pour la synthèse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étabolites secondair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és dans des médicaments, colorants, etc. Ce peut-être également un moyen de cloner des lign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905120"/>
            <a:ext cx="9144000" cy="36576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litre de milieu de culture contenu dans un fermenteur peut produire des milliers, voire des millions d'embryons somatiqu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éfinition de 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902340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'embryogenèse somatique est un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me de multiplication végétativ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qui permet d'obtenir une multitude de plantules identiques génétiquement à la plante donneuse d'explants.C'est  donc l'obtention d'embryons à partir de cellules somatiques, c'est à dire non sexuel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tte technique de multiplication s'adapte à l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tomatis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ce qui permet de réduire les coûts de pro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rend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n plantes produites est très élev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embryons obtenus sont d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rigine unicellulai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il n'y a donc pas de problème de  chimè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ssage par cal peut amener des risques de dérive génétique, c'est à dire d'obtention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ariant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seraient différents de la plante de dé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médier à cette situation, on pratique après fécondation un prélèvement précoce des embryons pour les mettre en culture sur un milieu artifici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: Le sauvetage d'embryons interspécif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auvetage d’embryon consiste à prélever un embryon immature afin de le cultiver in vitro pour accélérer les cycles de végét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e sauvetage peut aussi être effectué car l’embryon ne pourrait peut être pas se développer dans les tissus maternels comme dans le cas d’un croisement interspécifiqu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emédier à cette situation, on pratique, après fécondation, un prélèvement précoce des embryons pour les mettre en culture sur un milieu artificiel nutriti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ncipe de la technique du Sauvetage d'embryon interspécifiqu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croise une espèce sauvage de tomate avec une espèce cultivée de tomate, l'embryon issu de cette fécondation va avorter à cause de l'absence d'appariement des chromosomes lors de la prophase I de la méïose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éviter cette avortement, l'embryon immature sera prélevè et mise en culture dans une boite de pétri afin d'assurer la régénération d'un nouvel individu possèdant les caractèristiques des 2 espèc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echnique du sauvetage d'emb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atibilité entre les tissus embryonnaires et maternel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pèc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20 mai, 2010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 espèc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267440" cy="6324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8320" y="0"/>
            <a:ext cx="4038480" cy="5334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culture d'embryons imm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yo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ation de matériel vivant à très basse 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zote liquide (-196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peurs d’azote (-15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at de vie suspendue, ré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’espèces en voie de dispari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agronomique : réservoir de variabilité utilisable pour des plan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médical : réservoir de substances actives incon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éthique : préservation d’une richesse de nature non-march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variétés agronomiques ou horticole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iter de perdre les variétés tombées en désu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osion génétique des espèces à multiplication végé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illeure solution : la cryopreser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reeze2"/>
          <p:cNvPicPr/>
          <p:nvPr/>
        </p:nvPicPr>
        <p:blipFill>
          <a:blip r:embed="rId1"/>
          <a:stretch/>
        </p:blipFill>
        <p:spPr>
          <a:xfrm>
            <a:off x="1143000" y="2438280"/>
            <a:ext cx="2895480" cy="21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4" descr="storage1"/>
          <p:cNvPicPr/>
          <p:nvPr/>
        </p:nvPicPr>
        <p:blipFill>
          <a:blip r:embed="rId2"/>
          <a:stretch/>
        </p:blipFill>
        <p:spPr>
          <a:xfrm>
            <a:off x="4267080" y="2419200"/>
            <a:ext cx="289584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iter la formation de cristaux dans le cytopla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gélation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hydratation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hage à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shydratation par congélation 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uvetage d’embr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ompatibilité du porte gr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349360"/>
            <a:ext cx="80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mences hybrides sont viables mais le développement ne peut se faire sur le pied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génération de la plante par cultu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’embr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68360" y="5300640"/>
            <a:ext cx="65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la triticale (Triticum x Se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1.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induit de nombreuses divisions cellulaires à partir des tissus mis en culture. Le milieu est complémenté par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fortes doses d'auxine (2,4D) et de cytokinin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Le 2,4D est une auxine de synthèse. Elle est perçue comme une auxine par la plante mais n'est pas dégradée. Son accumulation provoque alors un choc auxinique : les cellules prolifèrent et forment un cal cellul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2. Mainte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l est transféré s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 milieu d'induc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'embryogenèse. Le cal cellulaire devient alors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mbryogè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On peut ainsi découper ce cal en plusieurs morceaux pour augmenter la taille de la population végé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tape 3. Dévelop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al est transféré sur 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ilieu d'express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 milieu ne contient aucune hormone et va permettre le développement des embry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380880" y="15228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4 .Maturation et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mbryons vont ensuite maturer (au bout de 5 semaines), puis germer. On obtient des plantules somatiques, elles vont alors pouvoir être cultivées en sol pour finir leur croiss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177840" y="0"/>
            <a:ext cx="380880" cy="764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7:5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