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951-F3C9-427B-8138-DD68C1DB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204-4162-49E8-9D92-19FFF848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DDA-55DF-4CF7-8ABF-83213059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234-0270-4DA5-B1A1-F9EC10FB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331-C533-4F90-A9F3-A66764FE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9FE-BB74-4CF3-AB0B-0B8DDD30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D52-B42D-45BE-825E-3E1138B4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E4A-C0A0-4CCC-BF94-9FC9A512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520-FD0C-472A-B2BA-60FB2213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6E7-534C-41E9-9920-7C82F64D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52F-10C6-4219-91A5-BF68854C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162-113A-433C-B147-072F9CDE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6037-F345-4DE8-8437-24836275B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42&amp;lettre=E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'embryogenèse somat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883908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Défini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Explant utilis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Principales ét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Voies de l’embryogénèse soma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 Avantages et lim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2840" y="0"/>
            <a:ext cx="9058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856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0" y="3048120"/>
            <a:ext cx="3733920" cy="366012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oies de l’embryogénèse so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client\Desktop\sans-titre-7.png"/>
          <p:cNvPicPr/>
          <p:nvPr/>
        </p:nvPicPr>
        <p:blipFill>
          <a:blip r:embed="rId1"/>
          <a:stretch/>
        </p:blipFill>
        <p:spPr>
          <a:xfrm>
            <a:off x="0" y="1447920"/>
            <a:ext cx="8686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re 1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Voie indirecte ou passage par un 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204560"/>
            <a:ext cx="9144000" cy="69246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nombreuses divisions cellulaires sont rapidement provoquées à partir des tissus cultivés grâce à l'apport d'une forte dose d'auxine. Un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l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alors obtenu, c'est à dire un amas de cellules indifférenciées, rejuvénilisées et qui pourront donner naissance à de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embryons bipolair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avec un méristème de racines et un méristème de tiges)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vont se comporter comme des embryons zygotiques, (issus de la fécondation entre une cellule sexuelle femelle et une cellule sexuelle mâ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Embryon so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client\Desktop\cafe.jpg"/>
          <p:cNvPicPr/>
          <p:nvPr/>
        </p:nvPicPr>
        <p:blipFill>
          <a:blip r:embed="rId1"/>
          <a:stretch/>
        </p:blipFill>
        <p:spPr>
          <a:xfrm>
            <a:off x="2819520" y="144792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client\Desktop\stdprod_088912.jpg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Espace réservé du contenu 3" descr="img-1.jpg"/>
          <p:cNvPicPr/>
          <p:nvPr/>
        </p:nvPicPr>
        <p:blipFill>
          <a:blip r:embed="rId1"/>
          <a:stretch/>
        </p:blipFill>
        <p:spPr>
          <a:xfrm>
            <a:off x="228600" y="457200"/>
            <a:ext cx="830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1143000"/>
            <a:ext cx="8381880" cy="54864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embryogenèse somatique est une technique qui s'adapte bien à la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duction industriel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. Les embryons somatiques peuvent être initiés dans des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ioréacteur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afin soit de produire de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semences artifici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 les encapsulant dans un gel nutritif, ou encore pour la synthèse d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étabolites secondair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és dans des médicaments, colorants, etc. Ce peut-être également un moyen de cloner des ligneu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1905120"/>
            <a:ext cx="9144000" cy="36576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n litre de milieu de culture contenu dans un fermenteur peut produire des milliers, voire des millions d'embryons somatiqu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éfinition de l'embryogenèse somat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902340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'embryogenèse somatique est une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orme de multiplication végétativ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qui permet d'obtenir une multitude de plantules identiques génétiquement à la plante donneuse d'explants.C'est  donc l'obtention d'embryons à partir de cellules somatiques, c'est à dire non sexuel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éfinition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Obtention de la phase ha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Andr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Gyn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Retour à l'état fertile di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Traitement à la colch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Intérêt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ette technique de multiplication s'adapte à l'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utomatisation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, ce qui permet de réduire les coûts de prod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rend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n plantes produites est très élev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embryons obtenus sont d'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rigine unicellulair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, il n'y a donc pas de problème de  chimè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vantag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imit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assage par cal peut amener des risques de dérive génétique, c'est à dire d'obtention d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variant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seraient différents de la plante de dé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s de croisements interspécifiques, des barrières naturelles empêchent le développement complet de l'embryo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remédier à cette situation, on pratique après fécondation un prélèvement précoce des embryons pour les mettre en culture sur un milieu artificiel nutritif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te technique de culture in vitro est appelée sauvetage d'embryons interspécifiqu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6: Le sauvetage d'embryons interspécifiqu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auvetage d’embryon consiste à prélever un embryon immature afin de le cultiver in vitro pour accélérer les cycles de végétati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ce sauvetage peut aussi être effectué car l’embryon ne pourrait peut être pas se développer dans les tissus maternels comme dans le cas d’un croisement interspécifiqu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s de croisements interspécifiques, des barrières naturelles empêchent le développement complet de l'embry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remédier à cette situation, on pratique, après fécondation, un prélèvement précoce des embryons pour les mettre en culture sur un milieu artificiel nutriti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te technique de culture in vitro est appelée sauvetage d'embryons interspécifique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6: Le sauvetage d'embryons interspécifiq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6: Le sauvetage d'embryons interspécifique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ncipe de la technique du Sauvetage d'embryon interspécifique</a:t>
            </a: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on croise une espèce sauvage de tomate avec une espèce cultivée de tomate, l'embryon issu de cette fécondation va avorter à cause de l'absence d'appariement des chromosomes lors de la prophase I de la méïose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apsi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éviter cette avortement, l'embryon immature sera prélevè et mise en culture dans une boite de pétri afin d'assurer la régénération d'un nouvel individu possèdant les caractèristiques des 2 espèce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technique du sauvetage d'embry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vortement d'embryons issus de croisements interspécifiques est attribué à un développement retardé de l'albumen, par incompatibilité entre les tissus embryonnaires et maternel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écupération de l'embryon doit être effectuée avant son avortement, entre 4 et 16 jours après la fécondation, selon 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spèc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est souvent nécessaire de réaliser ce prélèvement sous une loupe binocul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'est pourquoi on cherche à retarder cette opération pour disposer de matériel végétal plus facilement manipulab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graines immatures sont désinfectées en surface et après dissection, les embryons sont transférés sur un milieu de culture solide appropri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ès deux semaines, les embryons ont généralement atteint le stade cotylédon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ransfert sur un milieu riche en hormones de croissance permet la production de plant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vortement d'embryons issus de croisements interspécifiques est attribué à un développement retardé de l'albumen, par incomp20 mai, 2010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cupération de l'embryon doit être effectuée avant son avortement, entre 4 et 16 jours après la fécondation, selon les espèc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t souvent nécessaire de réaliser ce prélèvement sous une loupe binoculai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'est pourquoi on cherche à retarder cette opération pour disposer de matériel végétal plus facilement manipulabl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graines immatures sont désinfectées en surface et après dissection, les embryons sont transférés sur un milieu de culture solide appropri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ès deux semaines, les embryons ont généralement atteint le stade cotylédonai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transfert sur un milieu riche en hormones de croissance permet la production de plant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4267440" cy="6324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648320" y="0"/>
            <a:ext cx="4038480" cy="53341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culture d'embryons imm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90440" y="61920"/>
            <a:ext cx="9524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yo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servation de matériel vivant à très basse tempé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zote liquide (-196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peurs d’azote (-150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at de vie suspendue, ré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7545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blémati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’espèces en voie de disparitio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agronomique : réservoir de variabilité utilisable pour des plans de sé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médical : réservoir de substances actives incon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éthique : préservation d’une richesse de nature non-march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e variétés agronomiques ou horticoles intéress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iter de perdre les variétés tombées en désu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rosion génétique des espèces à multiplication végé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eilleure solution : la cryopreserv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freeze2"/>
          <p:cNvPicPr/>
          <p:nvPr/>
        </p:nvPicPr>
        <p:blipFill>
          <a:blip r:embed="rId1"/>
          <a:stretch/>
        </p:blipFill>
        <p:spPr>
          <a:xfrm>
            <a:off x="1143000" y="2438280"/>
            <a:ext cx="2895480" cy="216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0" name="Picture 4" descr="storage1"/>
          <p:cNvPicPr/>
          <p:nvPr/>
        </p:nvPicPr>
        <p:blipFill>
          <a:blip r:embed="rId2"/>
          <a:stretch/>
        </p:blipFill>
        <p:spPr>
          <a:xfrm>
            <a:off x="4267080" y="2419200"/>
            <a:ext cx="2895840" cy="216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viter la formation de cristaux dans le cytopla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gélation rap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shydratation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chage à l’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shydratation par congélation 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uvetage d’embr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compatibilité du porte gr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900000" y="2349360"/>
            <a:ext cx="801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semences hybrides sont viables mais le développement ne peut se faire sur le pied m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génération de la plante par cultur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l’embry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68360" y="5300640"/>
            <a:ext cx="65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la triticale (Triticum x Se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1.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induit de nombreuses divisions cellulaires à partir des tissus mis en culture. Le milieu est complémenté par d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fortes doses d'auxine (2,4D) et de cytokinin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Le 2,4D est une auxine de synthèse. Elle est perçue comme une auxine par la plante mais n'est pas dégradée. Son accumulation provoque alors un choc auxinique : les cellules prolifèrent et forment un cal cellul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2. Mainte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al est transféré sur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un milieu d'induc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e l'embryogenèse. Le cal cellulaire devient alors </a:t>
            </a: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embryogè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On peut ainsi découper ce cal en plusieurs morceaux pour augmenter la taille de la population végét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066680"/>
            <a:ext cx="8610480" cy="548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tape 3. Développ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cal est transféré sur un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milieu d'expression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Ce milieu ne contient aucune hormone et va permettre le développement des embry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380880" y="152280"/>
            <a:ext cx="8229600" cy="7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4 .Maturation et g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embryons vont ensuite maturer (au bout de 5 semaines), puis germer. On obtient des plantules somatiques, elles vont alors pouvoir être cultivées en sol pour finir leur croiss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"/>
          <p:cNvSpPr/>
          <p:nvPr/>
        </p:nvSpPr>
        <p:spPr>
          <a:xfrm>
            <a:off x="177840" y="0"/>
            <a:ext cx="380880" cy="764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LA COMPUTERS</cp:lastModifiedBy>
  <dcterms:modified xsi:type="dcterms:W3CDTF">2001-12-31T23:17:59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