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D5ED-48F6-404E-9F46-7B1EF0524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B641-B8EE-4A81-94E0-BA127140D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4A01-030F-4F79-94AB-6546272C4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57A9-0603-47CB-B994-EBB88D7C0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4F2F-2ED5-4BBA-A5F1-AB820A3F0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46C5-CDB0-4336-9E9B-C5AC234F5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BA1C-F9C9-426F-A2FD-4E4B0EDF6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D1F4-5BC4-46FF-B544-3F4113663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ED6E-7B9F-4768-838D-6F534CBCB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9D16-CF5A-49D4-974B-7F9EF2448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F406-D3AE-4E24-82C3-605D99CE4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41F9-0272-4D5B-9EC1-2BD2AD943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5A031-F398-413A-B93C-66384C492A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nis-pedagogie.org/index.php?spec=lexique&amp;numpage=179&amp;numfamille=11&amp;numrub=33&amp;numcateg=&amp;numsscateg=&amp;numpara=2366&amp;lettre=H" TargetMode="External"/><Relationship Id="rId2" Type="http://schemas.openxmlformats.org/officeDocument/2006/relationships/hyperlink" Target="http://www.gnis-pedagogie.org/index.php?spec=lexique&amp;numpage=179&amp;numfamille=11&amp;numrub=33&amp;numcateg=&amp;numsscateg=&amp;numpara=2367&amp;lettre=H" TargetMode="External"/><Relationship Id="rId3" Type="http://schemas.openxmlformats.org/officeDocument/2006/relationships/hyperlink" Target="http://www.gnis-pedagogie.org/index.php?spec=lexique&amp;numpage=179&amp;numfamille=11&amp;numrub=33&amp;numcateg=&amp;numsscateg=&amp;numpara=2325&amp;lettre=D" TargetMode="Externa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nis-pedagogie.org/index.php?spec=lexique&amp;numpage=179&amp;numfamille=11&amp;numrub=33&amp;numcateg=&amp;numsscateg=&amp;numpara=2487&amp;lettre=S" TargetMode="External"/><Relationship Id="rId2" Type="http://schemas.openxmlformats.org/officeDocument/2006/relationships/hyperlink" Target="http://www.gnis-pedagogie.org/index.php?spec=lexique&amp;numpage=179&amp;numfamille=11&amp;numrub=33&amp;numcateg=&amp;numsscateg=&amp;numpara=2386&amp;lettre=L" TargetMode="External"/><Relationship Id="rId3" Type="http://schemas.openxmlformats.org/officeDocument/2006/relationships/hyperlink" Target="http://www.gnis-pedagogie.org/index.php?spec=lexique&amp;numpage=179&amp;numfamille=11&amp;numrub=33&amp;numcateg=&amp;numsscateg=&amp;numpara=2355&amp;lettre=G" TargetMode="External"/><Relationship Id="rId4" Type="http://schemas.openxmlformats.org/officeDocument/2006/relationships/hyperlink" Target="http://www.gnis-pedagogie.org/index.php?spec=lexique&amp;numpage=179&amp;numfamille=11&amp;numrub=33&amp;numcateg=&amp;numsscateg=&amp;numpara=2343&amp;lettre=F" TargetMode="External"/><Relationship Id="rId5" Type="http://schemas.openxmlformats.org/officeDocument/2006/relationships/hyperlink" Target="http://www.gnis-pedagogie.org/index.php?spec=lexique&amp;numpage=179&amp;numfamille=11&amp;numrub=33&amp;numcateg=&amp;numsscateg=&amp;numpara=2367&amp;lettre=H" TargetMode="Externa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nis-pedagogie.org/index.php?spec=lexique&amp;numpage=179&amp;numfamille=11&amp;numrub=33&amp;numcateg=&amp;numsscateg=&amp;numpara=2308&amp;lettre=C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Haplodiploidis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0240" y="1219320"/>
            <a:ext cx="8839080" cy="5410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.  Définition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2.Principe de l’haplodiploidis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3.Obtention de la phase haploï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4. Androgénè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5.Gynogénè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6.Retour à l'état fertile diploï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- Traitement à la colchic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7.Intérêt de l’haplodiploidis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de l’haplodiploid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itre 1"/>
          <p:cNvSpPr/>
          <p:nvPr/>
        </p:nvSpPr>
        <p:spPr>
          <a:xfrm>
            <a:off x="609480" y="76320"/>
            <a:ext cx="8229600" cy="1143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La gynogénè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C:\Users\client\Desktop\biotech-58---obtention-dhaploides-organes-femelles-500p.jpg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Gynogenèse in si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0" y="1599840"/>
            <a:ext cx="9144000" cy="4876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On peut obtenir des haploïdes après croisements entre espèces ou entre genres. Il y a fécondation, mais les </a:t>
            </a:r>
            <a:r>
              <a:rPr b="1" lang="fr-FR" sz="3600" spc="-1" strike="noStrike">
                <a:solidFill>
                  <a:srgbClr val="ff0000"/>
                </a:solidFill>
                <a:latin typeface="Arial"/>
              </a:rPr>
              <a:t>chromosomes 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incompatibles du parent pollinisateur sont rejetés naturellement. On peut également provoquer une fécondation anormale à l'aide de pollen dénatur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63868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Gynogénèse in si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Retour à l'état fertile diploï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solidFill>
            <a:srgbClr val="a3a3e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Pour utiliser en sélection une plante régénérée par l'une de ces voies,</a:t>
            </a:r>
            <a:br>
              <a:rPr sz="4800"/>
            </a:b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il faut disposer de </a:t>
            </a:r>
            <a:r>
              <a:rPr b="1" lang="fr-FR" sz="4800" spc="-1" strike="noStrike">
                <a:solidFill>
                  <a:srgbClr val="ff0000"/>
                </a:solidFill>
                <a:latin typeface="Arial"/>
              </a:rPr>
              <a:t>plantes fertiles 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et donc </a:t>
            </a:r>
            <a:r>
              <a:rPr b="1" lang="fr-FR" sz="4800" spc="-1" strike="noStrike">
                <a:solidFill>
                  <a:srgbClr val="ff0000"/>
                </a:solidFill>
                <a:latin typeface="Arial"/>
              </a:rPr>
              <a:t>diploïde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Retour à l'état fertile diploï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61640" y="1600200"/>
            <a:ext cx="8915400" cy="3124080"/>
          </a:xfrm>
          <a:prstGeom prst="rect">
            <a:avLst/>
          </a:prstGeom>
          <a:solidFill>
            <a:srgbClr val="a3a3e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5400" spc="-1" strike="noStrike">
                <a:solidFill>
                  <a:srgbClr val="000000"/>
                </a:solidFill>
                <a:latin typeface="Arial"/>
              </a:rPr>
              <a:t>Haplodiploïdisation = Haploïdisation+doublement (spontanée ou induit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56840" y="1447560"/>
            <a:ext cx="8381880" cy="5181480"/>
          </a:xfrm>
          <a:prstGeom prst="rect">
            <a:avLst/>
          </a:prstGeom>
          <a:solidFill>
            <a:srgbClr val="8ac6c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'état haploïde étant instable, l'individu régénéré est parfois diploïde, on parle de doublement spontané du stock chromosomiqu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our le blé, on peut compter 20 à 25 % d‘</a:t>
            </a:r>
            <a:r>
              <a:rPr b="1" lang="fr-FR" sz="3200" spc="-1" strike="noStrike">
                <a:solidFill>
                  <a:srgbClr val="ff0000"/>
                </a:solidFill>
                <a:latin typeface="Arial"/>
              </a:rPr>
              <a:t>haploide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doublés spontanéme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60 à 65 % chez l'orge. Sinon, on provoque artificiellement </a:t>
            </a:r>
            <a:r>
              <a:rPr b="1" lang="fr-FR" sz="3200" spc="-1" strike="noStrike">
                <a:solidFill>
                  <a:srgbClr val="ff0000"/>
                </a:solidFill>
                <a:latin typeface="Arial"/>
              </a:rPr>
              <a:t>un doublement des chromosome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, le plus couramment par l'action d'un agent chimique, </a:t>
            </a:r>
            <a:r>
              <a:rPr b="1" lang="fr-FR" sz="3200" spc="-1" strike="noStrike">
                <a:solidFill>
                  <a:srgbClr val="ff0000"/>
                </a:solidFill>
                <a:latin typeface="Arial"/>
              </a:rPr>
              <a:t>la colchicin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Retour à l'état fertile diploï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0" y="1600200"/>
            <a:ext cx="9144000" cy="5105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Les plantes obtenues sont des diploïdes homozygotes : elles possèdent deux copies identiques de chacun de leurs chromosomes et donc portent des paires de </a:t>
            </a:r>
            <a:r>
              <a:rPr b="1" lang="fr-FR" sz="3600" spc="-1" strike="noStrike">
                <a:solidFill>
                  <a:srgbClr val="ff0000"/>
                </a:solidFill>
                <a:latin typeface="Arial"/>
              </a:rPr>
              <a:t>gènes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1" lang="fr-FR" sz="3600" spc="-1" strike="noStrike">
                <a:solidFill>
                  <a:srgbClr val="ff0000"/>
                </a:solidFill>
                <a:latin typeface="Arial"/>
              </a:rPr>
              <a:t>allèles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identiques, d'où leur </a:t>
            </a:r>
            <a:r>
              <a:rPr b="1" lang="fr-FR" sz="3600" spc="-1" strike="noStrike">
                <a:solidFill>
                  <a:srgbClr val="ff0000"/>
                </a:solidFill>
                <a:latin typeface="Arial"/>
              </a:rPr>
              <a:t>grand intérêt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. La multiplication de ces plantes se fera par </a:t>
            </a:r>
            <a:r>
              <a:rPr b="1" lang="fr-FR" sz="3600" spc="-1" strike="noStrike">
                <a:solidFill>
                  <a:srgbClr val="ff0000"/>
                </a:solidFill>
                <a:latin typeface="Arial"/>
              </a:rPr>
              <a:t>autofécondation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: tous les descendants seront des copies identiques de leurs paren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Retour à l'état fertile diploï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0" y="1600200"/>
            <a:ext cx="9144000" cy="5105520"/>
          </a:xfrm>
          <a:prstGeom prst="rect">
            <a:avLst/>
          </a:prstGeom>
          <a:solidFill>
            <a:srgbClr val="edf57f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La colchicine </a:t>
            </a:r>
            <a:r>
              <a:rPr b="1" lang="fr-FR" sz="3600" spc="-1" strike="noStrike">
                <a:solidFill>
                  <a:srgbClr val="ff0000"/>
                </a:solidFill>
                <a:latin typeface="Arial"/>
              </a:rPr>
              <a:t>bloque la mitose 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après la duplication des </a:t>
            </a:r>
            <a:r>
              <a:rPr b="1" lang="fr-FR" sz="3600" spc="-1" strike="noStrike">
                <a:solidFill>
                  <a:srgbClr val="ff0000"/>
                </a:solidFill>
                <a:latin typeface="Arial"/>
              </a:rPr>
              <a:t>chromosomes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et les cellules deviennent </a:t>
            </a:r>
            <a:r>
              <a:rPr b="1" lang="fr-FR" sz="3600" spc="-1" strike="noStrike">
                <a:solidFill>
                  <a:srgbClr val="ff0000"/>
                </a:solidFill>
                <a:latin typeface="Arial"/>
              </a:rPr>
              <a:t>diploïdes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Le traitement à la colchicine peut se réaliser au stade plantule par trempage des racines ou injection dans les méristèm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Les taux de doublement sont très variabl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Traitement à la colchic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ntérê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1371240"/>
            <a:ext cx="8915400" cy="52578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’haplodipoidisation est une méthode utilisée pour </a:t>
            </a:r>
            <a:r>
              <a:rPr b="1" lang="fr-FR" sz="3200" spc="-1" strike="noStrike">
                <a:solidFill>
                  <a:srgbClr val="ff0000"/>
                </a:solidFill>
                <a:latin typeface="Arial"/>
              </a:rPr>
              <a:t>fixer plus rapidement le matériel génétique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n cours de sélection. Elle repos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ur l'obtention de plantes </a:t>
            </a: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haploide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(n) à partir des organes mâles ou femelles puis sur le doublement du stock chromosomique. Ainsi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n va disposer de plantes </a:t>
            </a:r>
            <a:r>
              <a:rPr b="1" lang="fr-FR" sz="3200" spc="-1" strike="noStrike">
                <a:solidFill>
                  <a:srgbClr val="ff0000"/>
                </a:solidFill>
                <a:latin typeface="Arial"/>
              </a:rPr>
              <a:t>diploides (2 n) homozygotes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ù l'ensemble du </a:t>
            </a:r>
            <a:r>
              <a:rPr b="1" lang="fr-FR" sz="3200" spc="-1" strike="noStrike">
                <a:solidFill>
                  <a:srgbClr val="ff0000"/>
                </a:solidFill>
                <a:latin typeface="Arial"/>
              </a:rPr>
              <a:t>génom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est fix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C'est donc une technique rapide de production de lignées pures en </a:t>
            </a:r>
            <a:r>
              <a:rPr b="1" lang="fr-FR" sz="4000" spc="-1" strike="noStrike">
                <a:solidFill>
                  <a:srgbClr val="ff0000"/>
                </a:solidFill>
                <a:latin typeface="Arial"/>
              </a:rPr>
              <a:t>une seule </a:t>
            </a:r>
            <a:r>
              <a:rPr b="0" lang="fr-FR" sz="4000" spc="-1" strike="noStrike">
                <a:solidFill>
                  <a:srgbClr val="ff0000"/>
                </a:solidFill>
                <a:latin typeface="Arial"/>
              </a:rPr>
              <a:t>étape au lieu de 7 à 8 générations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2ef35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ntérê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47920"/>
          </a:xfrm>
          <a:prstGeom prst="rect">
            <a:avLst/>
          </a:prstGeom>
          <a:solidFill>
            <a:srgbClr val="bbe0e3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Définition de l’haplodiploid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029200"/>
          </a:xfrm>
          <a:prstGeom prst="rect">
            <a:avLst/>
          </a:prstGeom>
          <a:solidFill>
            <a:srgbClr val="e9ef9b"/>
          </a:solidFill>
          <a:ln w="9360">
            <a:solidFill>
              <a:srgbClr val="333399"/>
            </a:solidFill>
            <a:miter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Le processus d'</a:t>
            </a:r>
            <a:r>
              <a:rPr b="0" lang="fr-FR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aplodiploïdisation</a:t>
            </a: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 comprend l'obtention de plantes </a:t>
            </a:r>
            <a:r>
              <a:rPr b="0" lang="fr-FR" sz="4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aploïdes</a:t>
            </a: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 à partir des organes porteurs des cellules reproductrices, appelés gamétophyte mâle ou femelle, et le retour vers la phase </a:t>
            </a:r>
            <a:r>
              <a:rPr b="0" lang="fr-FR" sz="4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diploïde</a:t>
            </a: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De plus, cette méthode permet d'observer l'expression aussi bien des </a:t>
            </a:r>
            <a:r>
              <a:rPr b="1" lang="fr-FR" sz="4000" spc="-1" strike="noStrike">
                <a:solidFill>
                  <a:srgbClr val="ff0000"/>
                </a:solidFill>
                <a:latin typeface="Arial"/>
              </a:rPr>
              <a:t>génes récessifs 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que des </a:t>
            </a:r>
            <a:r>
              <a:rPr b="1" lang="fr-FR" sz="4000" spc="-1" strike="noStrike">
                <a:solidFill>
                  <a:srgbClr val="ff0000"/>
                </a:solidFill>
                <a:latin typeface="Arial"/>
              </a:rPr>
              <a:t>gènes dominants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. Ceci est particulièrement intéressant en sélec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2ef35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ntérê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685800" y="1523880"/>
            <a:ext cx="8229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 u cou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 la mitose, en présence de colchicine, 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ormation du fuseau chromatique le long duquel migrent les chromosomes des deux futu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ellules est inhibée. Une seule cellule réuniss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 les produits de la mitose est formée, el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ssède donc le double de chromosomes. Les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x séries n + n sont identiques, la pla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haploïde doublée (HD) est donc homozygo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ensu stri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t on obtient ainsi une lignée fixé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n une seule génération de reproduction sexu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rès généralement, l'individu haploïde présente les mêmes caractéristiques morphologique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que l'individu diploïde. Toutefois, la réduction de la moitié de son génome se traduit par un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éduction du volume cellulaire et une diminution de la taille dela plante (Magoon et Khanna 1963). Cette miniaturisation relative ne suffit cependant pas à repérer de façon suffisamment fiable les plantules présumée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haploïdes. C'est la raison pour laquelle desmarqueurs génétiques, visibles précocement et d'observation facile sont recherché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Principe de l’haplodiploidis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52280" y="1447920"/>
            <a:ext cx="8839440" cy="5486400"/>
          </a:xfrm>
          <a:prstGeom prst="rect">
            <a:avLst/>
          </a:prstGeom>
          <a:solidFill>
            <a:srgbClr val="e9ef9b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Le </a:t>
            </a:r>
            <a:r>
              <a:rPr b="0" lang="fr-FR" sz="3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électionneur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 effectue un croisement entre deux </a:t>
            </a:r>
            <a:r>
              <a:rPr b="0" lang="fr-FR" sz="3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lignées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 parentales présentant des caractéristiques intéressantes et complémentaires. Ce croisement produira la </a:t>
            </a:r>
            <a:r>
              <a:rPr b="0" lang="fr-FR" sz="3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génération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F1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. Ce sont les plantes mères pour l'obtention de la phase </a:t>
            </a:r>
            <a:r>
              <a:rPr b="0" lang="fr-FR" sz="3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aploïde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. A ce stade, toutes les plantes sont identiqu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Principe de l’haplodiploidis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8240" y="1447920"/>
            <a:ext cx="8458200" cy="4952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Selon les lois de Mendel et les recombinaisons entre les </a:t>
            </a:r>
            <a:r>
              <a:rPr b="0" lang="fr-FR" sz="3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hromosomes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 parentaux. Les individus F2 seront alors tous différents les uns des autres. Pour faciliter le travail de sélection, l'haplodiploïdisation va permettre d'obtenir des plantes homozygot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Users\client\Desktop\biotech-56---principe-haplodiploidisatio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85320"/>
            <a:ext cx="8229600" cy="1143000"/>
          </a:xfrm>
          <a:prstGeom prst="rect">
            <a:avLst/>
          </a:prstGeom>
          <a:solidFill>
            <a:srgbClr val="9ed3d7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Obtention de la phase haploï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-152640" y="1182240"/>
            <a:ext cx="9296280" cy="5675400"/>
          </a:xfrm>
          <a:prstGeom prst="rect">
            <a:avLst/>
          </a:prstGeom>
          <a:solidFill>
            <a:srgbClr val="e9ef9b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ne plante haploïde est un individu possédant un nombre gamétique de chromosom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l s'agit de récupérer les cellules ayant subi la méiose  avant la fécondation. C'est là que commence le travail de laboratoi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'il s'agit de gamètes mâles, on parle d‘</a:t>
            </a:r>
            <a:r>
              <a:rPr b="1" lang="fr-FR" sz="3200" spc="-1" strike="noStrike">
                <a:solidFill>
                  <a:srgbClr val="ff0000"/>
                </a:solidFill>
                <a:latin typeface="Arial"/>
              </a:rPr>
              <a:t>androgénès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. S'il s'agit de gamètes femelles, c'est la </a:t>
            </a:r>
            <a:r>
              <a:rPr b="1" lang="fr-FR" sz="3200" spc="-1" strike="noStrike">
                <a:solidFill>
                  <a:srgbClr val="ff0000"/>
                </a:solidFill>
                <a:latin typeface="Arial"/>
              </a:rPr>
              <a:t>gynogénès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Obtention de la phase haploï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52280" y="1600200"/>
            <a:ext cx="8686800" cy="4525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Arial"/>
              </a:rPr>
              <a:t>Mis en culture sur des milieux particuliers, l'embryon haploïde va se développer, les tissus vont se différencier pour donner des plantes haploïde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L’androgénèse ou les plants «sans mères</a:t>
            </a: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 »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C:\Users\client\Desktop\biotech-57---obtention-dhaploides-organes-males.jpg"/>
          <p:cNvPicPr/>
          <p:nvPr/>
        </p:nvPicPr>
        <p:blipFill>
          <a:blip r:embed="rId1"/>
          <a:stretch/>
        </p:blipFill>
        <p:spPr>
          <a:xfrm>
            <a:off x="228600" y="1523880"/>
            <a:ext cx="87631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8686800" cy="37339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L’androgénèse ou les plants «sans mères</a:t>
            </a: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 »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hanchour</cp:lastModifiedBy>
  <dcterms:modified xsi:type="dcterms:W3CDTF">2020-03-10T12:53:41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